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6.jpeg" ContentType="image/jpeg"/>
  <Override PartName="/ppt/media/image5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AAEB-44CE-40A0-841E-C1FF7D850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2221-23CB-429B-ACC8-A2D0DC8B1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4A65-9D5B-4042-B60D-F49123F0C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8112-9F42-44B0-AB72-8E3D87A5D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48B8-C14C-45C7-AD49-47EA94F2B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CAA4-F719-47DD-B172-CD16FA043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FBA4-58BF-4029-8413-19C3F6780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FA21-C9A6-4F10-A33E-0CBAE9D6D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5A0B-BAEF-4EA0-AF68-1F0139AE6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EC4C-11A1-4AD2-A1F8-D7B044FB9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786F-DDC0-4DB2-B366-939A7D042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576F-FDE0-4A25-A2BA-D1FCF2B3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9BAC8-7023-44D6-AA18-08C30307A5B4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gi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Električni nap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rimjer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oliki je napon na krajevima vodiča, ako se tijeko prolaska 10 C naboja kroz vodič u druge oblike energije pretvorilo 250 J energij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Što pokreće elektrone kroz strujni krug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U bateriji se kemijska energija pretvara u električnu tako da se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razdvajaju naboji.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Negativni pol baterije ima višak elektrona, a pozitivni pol manjak elektron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Naboj na polovima baterije djeluje silom na nosioce naboja u strujnom krugu, pokreće ih i tako obavlja rad. Taj je rad jednak električnoj energiji koju prenose nosioci naboj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rad izvora = električna energija nositelja naboja u struj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Za mjerenje električne sile i energije u strujnome krugu uvodimo veličinu koju je lako mjeriti. To je električni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ap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6840" y="1600200"/>
            <a:ext cx="375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kus: električni nap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Hoće li struja biti jednaka u strujnim krugovima na slikam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SnapShot(595).jpg"/>
          <p:cNvPicPr/>
          <p:nvPr/>
        </p:nvPicPr>
        <p:blipFill>
          <a:blip r:embed="rId5"/>
          <a:srcRect l="9844" t="17498" r="5907" b="0"/>
          <a:stretch/>
        </p:blipFill>
        <p:spPr>
          <a:xfrm>
            <a:off x="4572000" y="1773360"/>
            <a:ext cx="3851280" cy="2120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SnapShot(596).jpg"/>
          <p:cNvPicPr/>
          <p:nvPr/>
        </p:nvPicPr>
        <p:blipFill>
          <a:blip r:embed="rId6"/>
          <a:srcRect l="3937" t="16798" r="11220" b="0"/>
          <a:stretch/>
        </p:blipFill>
        <p:spPr>
          <a:xfrm>
            <a:off x="4572000" y="4005360"/>
            <a:ext cx="387828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1600200"/>
            <a:ext cx="404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Zatvorimo li strujne krugove, vidimo da su struj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hr-HR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= 0,2 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hr-HR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= 0,2 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ribližno jednak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ako je to moguć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4" descr="SnapShot(455).jpg"/>
          <p:cNvPicPr/>
          <p:nvPr/>
        </p:nvPicPr>
        <p:blipFill>
          <a:blip r:embed="rId5"/>
          <a:srcRect l="29528" t="0" r="29528" b="52493"/>
          <a:stretch/>
        </p:blipFill>
        <p:spPr>
          <a:xfrm>
            <a:off x="4643280" y="1341360"/>
            <a:ext cx="3745080" cy="2443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SnapShot(597).jpg"/>
          <p:cNvPicPr/>
          <p:nvPr/>
        </p:nvPicPr>
        <p:blipFill>
          <a:blip r:embed="rId6"/>
          <a:srcRect l="0" t="0" r="2165" b="0"/>
          <a:stretch/>
        </p:blipFill>
        <p:spPr>
          <a:xfrm>
            <a:off x="4643280" y="3933720"/>
            <a:ext cx="375768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To je moguće ako u drugome strujnom krugu elektroni iz izvora primaju dvostruko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više energije. Za takav izvor kažemo da ima dvostruko veći nap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vi-VN" sz="3200" spc="-1" strike="noStrike">
                <a:solidFill>
                  <a:srgbClr val="000000"/>
                </a:solidFill>
                <a:latin typeface="Calibri"/>
              </a:rPr>
              <a:t>Električni napon </a:t>
            </a:r>
            <a:r>
              <a:rPr b="0" i="1" lang="vi-VN" sz="3200" spc="-1" strike="noStrike">
                <a:solidFill>
                  <a:srgbClr val="000000"/>
                </a:solidFill>
                <a:latin typeface="Calibri"/>
              </a:rPr>
              <a:t>U </a:t>
            </a:r>
            <a:r>
              <a:rPr b="0" lang="vi-VN" sz="3200" spc="-1" strike="noStrike">
                <a:solidFill>
                  <a:srgbClr val="000000"/>
                </a:solidFill>
                <a:latin typeface="Calibri"/>
              </a:rPr>
              <a:t>između dviju točaka strujnoga kruga je energija koju jedinični naboj (1 C) prenese između tih dviju točak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Ako je naboj </a:t>
            </a:r>
            <a:r>
              <a:rPr b="1" i="1" lang="hr-HR" sz="32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renio energiju </a:t>
            </a:r>
            <a:r>
              <a:rPr b="1" i="1" lang="el-GR" sz="32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1" i="1" lang="hr-HR" sz="3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vrijedi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Mjerna jedinica za napon je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volt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, znak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1" descr=""/>
          <p:cNvPicPr/>
          <p:nvPr/>
        </p:nvPicPr>
        <p:blipFill>
          <a:blip r:embed="rId3"/>
          <a:stretch/>
        </p:blipFill>
        <p:spPr>
          <a:xfrm>
            <a:off x="4284720" y="2421000"/>
            <a:ext cx="1238040" cy="92376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"/>
          <p:cNvSpPr/>
          <p:nvPr/>
        </p:nvSpPr>
        <p:spPr>
          <a:xfrm>
            <a:off x="0" y="138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4"/>
          <a:stretch/>
        </p:blipFill>
        <p:spPr>
          <a:xfrm>
            <a:off x="3419640" y="4076640"/>
            <a:ext cx="1847520" cy="8762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6"/>
          <p:cNvSpPr/>
          <p:nvPr/>
        </p:nvSpPr>
        <p:spPr>
          <a:xfrm>
            <a:off x="0" y="13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7" descr=""/>
          <p:cNvPicPr/>
          <p:nvPr/>
        </p:nvPicPr>
        <p:blipFill>
          <a:blip r:embed="rId5"/>
          <a:stretch/>
        </p:blipFill>
        <p:spPr>
          <a:xfrm>
            <a:off x="4140360" y="5300640"/>
            <a:ext cx="742680" cy="85716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9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oriste se i milivolt (mV), te kilovolt (kV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oje je značenje napona na krajevima trošil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Napon na krajevima trošila ili pad napona je energija koju jedinični naboj pretvori u trošilu u druge oblike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3T09:06:37Z</dcterms:created>
  <dc:creator>Zdenko</dc:creator>
  <dc:description/>
  <dc:language>en-US</dc:language>
  <cp:lastModifiedBy>Zdenko</cp:lastModifiedBy>
  <dcterms:modified xsi:type="dcterms:W3CDTF">2014-07-18T09:23:30Z</dcterms:modified>
  <cp:revision>4</cp:revision>
  <dc:subject/>
  <dc:title>Električni napon</dc:title>
</cp:coreProperties>
</file>